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E602-9B5A-443F-ACFC-5601E8258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58A8-2C51-42AF-BDC1-2131C8624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6292-29F4-48FC-ABA8-5C17C6F19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090B-62DC-4317-A838-EA770A0BF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B0D0F-69B3-48B5-A3BD-DCA65FD6A5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A19E0-8C32-46A2-8420-FCED410B46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5DE28-9FA5-4F1F-B692-93ED6C2F06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43AFC-2770-4EAE-83EB-2E176B28D2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7B452-AF93-4A97-9017-629DFD5C6D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74525-9E4B-4763-9E38-8B11E9B5B9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A7631-5EA8-4B6D-98C6-2B93CFE2A9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9E60F-D710-4F39-954F-4B4D9DE997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E3CFF-1BEB-4EF2-8346-EEF095C47B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63DA1-86AC-4F35-B71F-5ABA1ECB6F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93B42-025B-415F-9747-2BBBE1423F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14378-77B1-4FCD-9CB4-05236463B7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80A7-85B6-4D07-960E-55306B26E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Charles Wilson</cp:lastModifiedBy>
  <cp:lastPrinted>2008-06-04T21:47:01Z</cp:lastPrinted>
  <dcterms:modified xsi:type="dcterms:W3CDTF">2008-06-05T21:29:01Z</dcterms:modified>
  <cp:revision>86</cp:revision>
  <dc:subject/>
  <dc:title>AT Basic System Example</dc:title>
</cp:coreProperties>
</file>