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86C6-77D0-45E9-9A9E-65C66BB13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5980-89DD-4E25-883A-CA647C589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576D-7CB1-466F-99B1-913456DD2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4A92-3C61-438B-AC5E-D604BD3E0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E043-E914-42D0-8D3E-C42FC009C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25C24-ED04-4FDE-90FD-611F9DEAE3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EFD7A-6523-44CD-B05C-FEA8A72408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A933E-7AFC-4719-9889-9D712C9A61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0BBDF-1118-48F4-9AF2-BBC22431D3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CBDE8-E4ED-4C4B-956D-5F362EAA35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F7484-06F2-4ECB-9BAA-1EEFCA93C4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41A44-4056-4429-B0E5-C53CE6C9D3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63D7A-6FE2-4C22-B5CF-E4F3DEFFB4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8FA77-8BBB-4C76-AAF3-7925FBCDA9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DC7B6-51CE-487A-A13A-A92CF866B3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20C39-FFE3-49B9-BA48-8C48966B44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DB4B4-0DE0-4274-A880-41C3C36739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9B9E-E221-468C-916C-B2ED2E2D6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4T22:13:32Z</dcterms:modified>
  <cp:revision>84</cp:revision>
  <dc:subject/>
  <dc:title>AT Basic System Example</dc:title>
</cp:coreProperties>
</file>