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E0137-CBCF-4B3C-A08A-B773DE67B9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D7FAF-8EBA-4EE8-B748-F3E6181E61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7089A-AC31-4F1F-A953-E0AFFCDDFF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92855-D0DB-40CB-AA1F-AB8C893AE2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C34CD-5BC8-43F1-B847-D69D14BB60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DBF57-E4AF-4FE5-860A-8D0C82D0AA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3D3FD-0021-42B8-B818-B962F4C9C4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9FF02-96AB-42D0-817F-E638E43080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C0BB6-B471-4D03-9AE1-B348B8E480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A214E-3E19-474C-BBA3-82A99C9A91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942D0-DEB4-46F3-BC52-1BB1F154A1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1A3421-5927-4CC8-AFE3-2083FBEB2E9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97FF23-BC8C-48D9-9443-E21A21B5510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82664E-83AE-46C9-926B-57DD731BB61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8C09E1-40B8-4FC9-AB44-070416E4DBD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95D75D-1989-4770-A39A-A380F67F2E6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94AC2-BE0D-45DA-A552-EB3273F02C9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CF6160-0E62-4F5A-93D4-7774C4DD384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0ED45D-A245-4C1A-BCA5-A9EEB8EE496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243CD7-40A3-4985-A90F-516FA23B92F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DC94E8-519A-49E2-857A-7FD76109E82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0836EC-DAB2-488C-8CC5-ED99758DF91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CB95C8-7F48-49E4-9EDA-94DFB5BC4B8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4E80B-C110-444A-BEBD-92B344CCE5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664CC-56BB-4A3A-A4E7-3820223341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68138-CED1-41E7-96B7-63C5D192C2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BA9C4-0297-426D-A81F-9608F819AC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9852E-61B1-4B82-9DA0-EB985B0E2B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64CEE-237A-45D1-AA9D-B08C4961D5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EDCD8-741D-406A-AA8E-807684AFF9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8E259-C762-4CC9-95CE-878DEF662C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8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8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94581-1781-4767-9BB6-1DA3F6BE76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6DEBC-9C64-4ED2-813F-45BF9B636C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5DFF0-E7F9-4BC2-A62C-22ED05D687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A6581-899B-404E-B1B0-6F8809EFA4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CE9C9-D6CE-4B1A-9E9A-E40A4EE2D2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71AB5-2142-4B0C-A28B-0C1A63A01D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E704F-D36E-4D8C-BCFD-920A03EE06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7424C-2CE5-4AD8-9D8D-BB9E9AAFC7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73F71-2DD0-4502-8E66-B552DAAE6D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BE056-5A5E-4E59-8551-5A9B2D5D30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EE501-5632-4918-9A0F-09D91B04E0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99856-6581-4B8E-A386-5D3D13372C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94B87-461D-49A3-857D-CDBA4529E8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9520" y="928800"/>
            <a:ext cx="39038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tra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DF6E8-D778-4355-A60D-E4B8637332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 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6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8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5D3C2-9C2D-4001-8160-8997EC0319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83E76-D93D-4BD3-A93A-BAF9715034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B0AF4-5798-44C7-9C5A-36AEDE2044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FEE31-B2D9-4858-A2FC-E3DB90D82B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6E91A-5114-4F7E-953E-2D2341800A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26456-8D9A-49DB-99A1-B301540781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9786E-74DF-4881-903A-9928BE2A04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2B450-6360-4CD8-B326-5A64C2D565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845BB-DA0E-4376-84C3-5E47827229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170D8-F962-4641-84E5-C564269835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70F0D-5C98-488F-B1B0-9A5F57255F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BDEB8-3FF8-4024-8AC0-5DB64C43A7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648000" y="4616280"/>
            <a:ext cx="2020320" cy="736200"/>
            <a:chOff x="648000" y="4616280"/>
            <a:chExt cx="2020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648000" y="5045400"/>
              <a:ext cx="2020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u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6880" y="4616280"/>
              <a:ext cx="1056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u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55832-C197-46F3-A6FB-87BBD089BE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2DA15-1927-431F-AC8B-143CF652EA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B68FB-1303-4293-B4A3-4923A55042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0B2A5-E38B-4C5F-B0CE-331182C112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B525B-486C-47E6-8636-F9CEA254AB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480"/>
            <a:chOff x="3665520" y="5286240"/>
            <a:chExt cx="4780080" cy="40248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016600" y="538164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AA45D-CE98-45D4-B1F4-92A30DDB04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423680" y="4519440"/>
              <a:ext cx="322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F3313-3730-4920-9E1A-AB6B568884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C5461-8B80-4868-8D57-D8C5CAC55C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0BC7B-3BE2-43C0-B9C3-C372CE77D4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66232-893D-4E4D-B9B8-E72248B38B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D769C-2FA6-4A63-80A2-AE1BCFB2D2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B5B77-B01B-4BB6-9F95-03C746A9AD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FA3EE-0ADD-4957-A21D-CCA3FE5716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FEAEF-4D3F-4EA6-88F6-7675ABA56D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BED65-2513-4ECA-8D6B-E2093E348F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3503C-96D2-4579-BF74-9EE4EBC1EC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C97E0-EE05-4EF3-B1BC-E30D6F13C4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A58C1-8FAA-4BCD-BC20-5C92B778DB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91E39-FC4F-43C8-8540-BBFF5BD05F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37385-74A1-4BC0-8B18-C9BF1755F3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05231-3346-45F1-82C0-4282082F80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102C1-85AD-4D71-8252-31EC42038E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A9CB1-506A-44A4-8850-1E79F105A8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C30BE-FA16-41A5-92C0-7655F7C5E5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9A617-DE46-40A1-B708-9EA2E6E067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D9AAD-0FF5-4740-9090-025A20AE59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6EB66-96A0-466C-9708-B73DE099AA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87407-0DCF-4172-9AC0-80DFD66F26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3B966-AEFE-4296-8147-661BB2E9EF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C6CF2-4E1E-469A-8CE2-4B391E8CCD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ACDA7-51E3-4C80-8C55-0B27E04749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4252F-A64F-4934-AC1C-2229631E93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82456-0346-41DD-8EB4-363DDEC36C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C1B44-FA0D-4656-921B-CA32E32111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F4264-76FB-43C4-9A1F-C646CE2571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49F5F-A1CB-4D29-BE0E-663043171D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CE4A1-3B89-4CB9-A6D0-A83180B74B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into(tlm_generic_payload&amp; other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44DB7-C753-4EFA-B26E-5373800BDD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E3216-A9B1-48E0-B1D3-64D545F806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4D228-D3D9-4D0F-BBD4-A7B2A41DDA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B8403-9088-4B5F-9FF0-AF25E4F020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9C8B6-4983-4C94-9A2D-FEF6276FD6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BD905-BEE5-4103-9651-25D7FEE67F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2814B-9BF8-4126-AD34-2C63E3FD73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BEA9C-7ACB-4DBD-A3B1-54CD8FF3ED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E46DB-E303-46A1-A98A-BC46B7B17F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5DA4C-DE19-4F0E-9CA6-ADECAB25A9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8EFE3-3158-477C-88B7-F6D7A10A99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4CD5E-C88E-4F6B-BEE9-C03D949AFC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3EE1B-9A1A-4BB8-A9C7-3369C5EE49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E5C04-B8D6-412F-8B44-3142CC3120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0A87A-F7A2-4F42-B543-DDBAF7CAF4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304920" y="1279440"/>
            <a:ext cx="8510400" cy="41576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BDCAD-700C-4559-AE83-C7889A78CA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6B927-6CA2-43F2-AF76-747729684B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121C2-2F41-4E29-8B22-525F9E0481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392040" y="857160"/>
            <a:ext cx="652104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new tlm_generic_payload( mem_mgr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32C60-BB43-44FE-9188-32256BF968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1B252-DFEB-4489-80F9-4EC014DBF4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0E1F0-6810-44E8-8AC6-02F1AE5C40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7F980-8605-4687-A8E3-35C9FFC1FE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F4D45-B8AD-4955-AACB-7CCC3236D7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3EBD2-8905-4B9D-A212-3ACB04CF9A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BE56E-1754-46F8-BDE9-1B023097D8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A1CF8-4875-4B29-B16D-E686F6CBA1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725DE-92EC-4D7F-A6D8-6D1EA02253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523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475D1-6CFC-4DD1-A9CB-CF9970A8F0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58B20-0E7B-4804-9BD5-51E1C4F42E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24EBC-8E59-46A1-98A0-175CC45476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94F91-8236-4E65-8F33-021AF1CE6E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BE98B-3DB5-4DC0-A159-FF1D0E94FA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4A3E2-4442-4E02-A2E7-EF72AE09B4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C0D49-2274-404A-9564-8167D2F709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B0809-C915-4277-A590-0F1ED2A8CA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CBC6A-BFAC-4293-B6C5-4D1E11B5C8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A6B2C-D354-4017-BD0F-4D7F77FFAD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 </cp:lastModifiedBy>
  <cp:lastPrinted>2002-03-05T00:56:29Z</cp:lastPrinted>
  <dcterms:modified xsi:type="dcterms:W3CDTF">2008-06-06T08:52:13Z</dcterms:modified>
  <cp:revision>1580</cp:revision>
  <dc:subject/>
  <dc:title>TLM WG Status 070327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710917829</vt:r8>
  </property>
  <property fmtid="{D5CDD505-2E9C-101B-9397-08002B2CF9AE}" pid="3" name="_AuthorEmail">
    <vt:lpwstr>bart@CoWare.com</vt:lpwstr>
  </property>
  <property fmtid="{D5CDD505-2E9C-101B-9397-08002B2CF9AE}" pid="4" name="_AuthorEmailDisplayName">
    <vt:lpwstr>Bart Vanthournout</vt:lpwstr>
  </property>
  <property fmtid="{D5CDD505-2E9C-101B-9397-08002B2CF9AE}" pid="5" name="_EmailSubject">
    <vt:lpwstr>TLM-2.0 Presentation ja6.ppt</vt:lpwstr>
  </property>
</Properties>
</file>