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A0F4-DBB2-4153-B2AE-27DC76520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F335-18FC-4434-B462-BADEE2A17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79DF-6E42-4171-813F-2FB8BBF3A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4953-4D68-41EC-8B26-9ED7A0DB7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04A6-42C0-4066-A78F-9BF36E0F8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F31C-4B22-4A28-BBAA-A58F73BFBC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25E4E-35C9-4D97-AEFE-C2CF66F35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328A6-4E03-4F65-8DF2-081FC3320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34E88-DBA6-45EC-BA69-7F1F9535EA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311FC-6CF5-42C8-80BE-EC9144B71E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CC8B3-24F4-41A2-A8BC-D8D3D61ED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AEB1-E760-4048-8276-64C91F7C0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9E7B2-5933-4404-8E4E-9C91E8DF4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F6FD8-8719-4131-9362-18A50FC69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6772-E56C-4261-A2D4-93393C64C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03F11-6691-4816-93AD-A31A25A47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08F71-0785-4B69-85E6-FA1280AA1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5A3C-E259-4971-8848-B8B9AFC03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Jack Donovan</cp:lastModifiedBy>
  <dcterms:modified xsi:type="dcterms:W3CDTF">2009-06-25T22:11:39Z</dcterms:modified>
  <cp:revision>84</cp:revision>
  <dc:subject/>
  <dc:title>AT Basic System Example</dc:title>
</cp:coreProperties>
</file>