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EF0C-3702-4376-BB1E-ECE24470C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6DC1-9AEF-4BE3-9F14-1A6C7EB94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1488-584B-4856-92DC-DE3EC42AE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B36B-765F-4DE5-A6C6-B50B0C0BF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C7FA-49F9-4D21-B005-F0105836D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7450C-71A4-4D6E-B34D-1EB3615E6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5559-590D-43EA-BAD0-02C4D58B2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48327-15D1-4799-A7A2-6016968AE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2E92F-A22F-4114-9FCC-E7224383D8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8902-B6BA-4E38-B464-DFBA1B9BC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02D7-5339-49B9-9482-C40994C34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A59D-02CE-4118-AE69-C7908CCBB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1B87-37E8-4B04-AF4C-2842740ED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5CAAE-3E28-40C8-B2E1-66461A465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F739D-8FB5-4D9A-B43D-27618D311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E6BD0-791D-480D-A246-3976A720B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142C0-E6F3-4685-AE62-D902801F9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0822-B491-4EE2-99B7-C2F8BADF7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Jack Donovan</cp:lastModifiedBy>
  <dcterms:modified xsi:type="dcterms:W3CDTF">2009-06-25T22:10:05Z</dcterms:modified>
  <cp:revision>83</cp:revision>
  <dc:subject/>
  <dc:title>AT Basic System Example</dc:title>
</cp:coreProperties>
</file>