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E76E1-ACD4-4594-BFDF-788A503996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03810-6608-461C-85E2-669C7DDFBD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9AC19-063F-4876-ACC1-78B01BDDA3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C7015-5788-4347-8539-49B1C23931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9BB87-84D9-49F0-B5FE-FC711E9316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71DAAF-BF5A-492A-BAB3-054383C272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912448-CD16-4F64-8198-95DDEE0202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899902-E613-4788-A54B-48CB843FE3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6136CC-9788-4388-B852-B1142F9447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0837A1-D5BC-4257-B440-6866C3C0EE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1ABA9D-2EC3-45FF-882E-99156A8438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3731CB-B5F7-4ACA-BCB2-49E0A325ED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1BA113-A4C7-453D-B1A6-C749155F6B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0BF1FD-C8AD-45D2-B504-DFC0C9362D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1B299D-16FF-4E3B-ACCC-55F917059A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338B6-9158-48F8-BD37-E1665A9A4D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56F2F9-0F31-418A-9E62-5700F58DB4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0ED10-6667-4BE5-809F-7D9A5C4AC2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ies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Jack Donovan</cp:lastModifiedBy>
  <cp:lastPrinted>2008-06-04T21:18:56Z</cp:lastPrinted>
  <dcterms:modified xsi:type="dcterms:W3CDTF">2009-06-26T16:59:39Z</dcterms:modified>
  <cp:revision>87</cp:revision>
  <dc:subject/>
  <dc:title>AT Basic System Example</dc:title>
</cp:coreProperties>
</file>