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F00D-393C-4EA0-A3D9-11955F517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8428-D0FA-49FC-A017-51097FF4A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3CC0-9B04-4DEE-B01D-F3C944677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FC75-3062-4D14-9B77-035BD3877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1497-2C92-4644-841C-DB13DFD20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20022-07B8-414D-83AA-C55D25329E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6ACD2-8016-4EAE-8405-FC2979B46F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14264-0463-4EBA-BAE4-7A88B01941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14EE4-FD98-4569-99E5-842AB52A56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40E91-246F-4740-BE97-703E0724E5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BDD8E-FD72-4617-9357-3D04746170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0EAAC-E758-4D37-B8CB-5DC6EBCA03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3C680-8A9C-4D31-BD80-66F106992E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1640E-D2FA-4610-A784-DE0EA88E74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33BD7-5B41-4201-9202-BB02C55674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64611-12DA-4E1E-9B52-09BBC24C4F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019EE-0DA2-4A47-A3FC-3A2A24FF59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F3EE-076A-4FA8-8182-CF673016D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Jack Donovan</cp:lastModifiedBy>
  <dcterms:modified xsi:type="dcterms:W3CDTF">2009-05-04T21:26:45Z</dcterms:modified>
  <cp:revision>87</cp:revision>
  <dc:subject/>
  <dc:title>AT Basic System Example</dc:title>
</cp:coreProperties>
</file>