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49424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D51160-B680-445E-AC25-A120D2764E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666DC1-93E0-40DB-9F93-CC9143829D4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DFB125-E95C-4E6D-B0EC-F94BEEF1E70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41DEA9-8BE7-47D8-A9AD-26DF694AE0B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6E2874-C269-425B-9512-4CD21A899F9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1F5220-51DC-491B-87BE-603E2CBC402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EF7D54-780F-4690-B1B5-4A5355980D9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5A364C-BA99-498F-A8F7-4F4EAF7B5BF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D8EA3E-3906-42D2-ACEE-1173DF6B5E2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F0658D-208F-425D-8B7C-89E748AFF3D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52367C-E10A-433D-BA2A-1647361E90B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4A28B3-DC2F-4DFC-B9E6-356D9A47F4E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4F9E4A-1C8C-4361-84CA-0FBFB373185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7C90FE-037F-4537-B377-A0F019D036E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1DBFAC-DC0D-4204-A3EE-8F0308E26DF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C18E07-81E8-4B44-AC4A-7FA7954B37F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F8FABB-10DF-4705-8F86-6541580609A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294C9F-7021-435E-8926-80809F25832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EC25C1-AE5A-48A5-AA28-A2B40C633FB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AF3EEF-D4A6-4FB3-A2E5-AE6A14DDE94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63E1EA-4CF2-4D47-9328-354BDE78550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BDE26B-7AD5-428F-A44B-9BF4322536D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2A828C-1A9D-4983-9967-7D64AD12213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A8B230-CC01-40FD-BCA5-EEDD06F0F49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2520D3-BEDA-463D-A923-674B2A853E2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029E97-E671-4C5F-915F-6B8EA77213E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381FAD-5BC3-4050-BB79-D099FBE9A22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140D0A-9E35-40DD-9322-95DE0C919F7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77AC3A-FC46-4107-AC16-06B343015C7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6DDE88-722D-49E5-A131-0651399D8D9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273E74-3047-4153-81F7-8EBC07AE36B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343447-AAB7-4D5E-A6EE-D54ED70609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6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C9CE36-945A-4D56-B4B7-4BEA6ACB85A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3B45A2-86AE-4818-B47F-6E3ED11BE80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D8A120-DC3E-4A24-866A-C8624BF3A73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1B504-061C-44C8-9AE0-B0BD527FE9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04F7A-4391-4A64-B6D8-F3D9809460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E8DB4-B531-43D6-B6E7-9AA09FB801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244A0-DF66-4B20-8BA1-20823ADA91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6CE50-3106-49F7-8634-EEB22780CF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3BFD8-E30A-4804-A132-6A5DD9D3067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41EC8-CDFD-4CEA-B697-6916C4B44D6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8F648-3C9C-4A27-A703-C024118EE99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B21E6-2F00-4B82-9099-F6A6816FE02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0DC29-9A9B-4C1A-8EB7-15979A3F0C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65CE3-86FC-4F4F-80DD-91856001CB2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710E1-892E-4248-85E4-F129BF1DF74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F301D-5857-4A3B-AF39-C1770D1A8B8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43BBB-F3C2-417E-BE20-5D8444D2BFE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FC380-5654-453F-A54E-460DF4A3C8B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41C30-9DFC-4F41-9474-EA51640A71C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B3354-B8DE-4C24-98FF-9E2323780F2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0F7C0-6F88-4636-8734-8AECF996D8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E7044-8763-4696-8517-92F45B4AE6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715F1-0E22-4DB8-87F2-7615AD2AB6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B8AFC-640D-4DD4-B5ED-4356451FD0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E1AD7-4AC0-47DA-808C-E1929C5FD8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220DB-214A-40CE-9735-4BF45AB73A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C7243-0517-444F-8398-8E0301ED76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9CF0D6-2890-4E25-85DA-6F3765F4073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9EE395C3-56FA-450F-B679-6D7740A6581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Tracing Parameter Activity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v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Retrieving handle for newly created cci_parame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Parameter Name : param_owner.doubl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has been creat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Parameter Value : 12.34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Registering other callbacks on the newly created cci-paramete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racing Parameter Activit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Configurator perspective: show how to use the parameter creation callback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Report the creation and modification of paramete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3"/>
          <p:cNvSpPr/>
          <p:nvPr/>
        </p:nvSpPr>
        <p:spPr>
          <a:xfrm>
            <a:off x="609480" y="3733920"/>
            <a:ext cx="28958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Rectangle 34"/>
          <p:cNvSpPr/>
          <p:nvPr/>
        </p:nvSpPr>
        <p:spPr>
          <a:xfrm>
            <a:off x="6095880" y="3733920"/>
            <a:ext cx="26672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Rectangle 37"/>
          <p:cNvSpPr/>
          <p:nvPr/>
        </p:nvSpPr>
        <p:spPr>
          <a:xfrm>
            <a:off x="457200" y="685800"/>
            <a:ext cx="2666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ain.cpp (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testbench fil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angle 38"/>
          <p:cNvSpPr/>
          <p:nvPr/>
        </p:nvSpPr>
        <p:spPr>
          <a:xfrm>
            <a:off x="457200" y="1066680"/>
            <a:ext cx="8001000" cy="152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itialize and register global broker</a:t>
            </a:r>
            <a:br>
              <a:rPr sz="1500"/>
            </a:b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</a:t>
            </a:r>
            <a:r>
              <a:rPr b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ci_register_broker(new cci_utils::broker(“My Global Broker”));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stantiate the </a:t>
            </a:r>
            <a:r>
              <a:rPr b="0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bserver</a:t>
            </a: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class (which registers various callbacks to trace cci-parameters </a:t>
            </a:r>
            <a:br>
              <a:rPr sz="1500"/>
            </a:b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activities)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Later, instantiate the </a:t>
            </a:r>
            <a:r>
              <a:rPr b="0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meter_owner</a:t>
            </a: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module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bserver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bserver_inst;</a:t>
            </a: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                                              // A simple C++ Class</a:t>
            </a:r>
            <a:br>
              <a:rPr sz="1500"/>
            </a:b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meter_owner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m_owner(“param_owner”);</a:t>
            </a: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      </a:t>
            </a:r>
            <a:r>
              <a:rPr b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// </a:t>
            </a: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meter Owner module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Rectangle 40"/>
          <p:cNvSpPr/>
          <p:nvPr/>
        </p:nvSpPr>
        <p:spPr>
          <a:xfrm>
            <a:off x="3733920" y="2666880"/>
            <a:ext cx="1752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.cp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88" name="Straight Arrow Connector 43"/>
          <p:cNvCxnSpPr>
            <a:stCxn id="187" idx="2"/>
            <a:endCxn id="183" idx="0"/>
          </p:cNvCxnSpPr>
          <p:nvPr/>
        </p:nvCxnSpPr>
        <p:spPr>
          <a:xfrm flipH="1">
            <a:off x="2057040" y="3047760"/>
            <a:ext cx="255312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9" name="Straight Arrow Connector 45"/>
          <p:cNvCxnSpPr>
            <a:stCxn id="187" idx="2"/>
            <a:endCxn id="184" idx="0"/>
          </p:cNvCxnSpPr>
          <p:nvPr/>
        </p:nvCxnSpPr>
        <p:spPr>
          <a:xfrm>
            <a:off x="4610160" y="3047760"/>
            <a:ext cx="282024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0" name="Rectangle 46"/>
          <p:cNvSpPr/>
          <p:nvPr/>
        </p:nvSpPr>
        <p:spPr>
          <a:xfrm>
            <a:off x="228600" y="4267080"/>
            <a:ext cx="426708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OLE 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stantiate few cci-parameter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nf::cci_param&lt;int&gt;    *      int_param;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nf::cci_param&lt;float&gt; *     float_param;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Make changes to their values during simulati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Rectangle 47"/>
          <p:cNvSpPr/>
          <p:nvPr/>
        </p:nvSpPr>
        <p:spPr>
          <a:xfrm>
            <a:off x="4724280" y="4114800"/>
            <a:ext cx="419112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OLE 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et handle for the </a:t>
            </a:r>
            <a:r>
              <a:rPr b="0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lobal broker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ister callbacks for notifying creation of new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-parameter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ister other callback by getting hold of the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meter handle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Straight Connector 28"/>
          <p:cNvSpPr/>
          <p:nvPr/>
        </p:nvSpPr>
        <p:spPr>
          <a:xfrm flipH="1">
            <a:off x="7237440" y="41148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Rectangle 2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Straight Connector 28"/>
          <p:cNvSpPr/>
          <p:nvPr/>
        </p:nvSpPr>
        <p:spPr>
          <a:xfrm>
            <a:off x="2286000" y="41911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Rectangle 13"/>
          <p:cNvSpPr/>
          <p:nvPr/>
        </p:nvSpPr>
        <p:spPr>
          <a:xfrm>
            <a:off x="2666880" y="114300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Within Constructor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Straight Connector 28"/>
          <p:cNvSpPr/>
          <p:nvPr/>
        </p:nvSpPr>
        <p:spPr>
          <a:xfrm flipH="1">
            <a:off x="1598760" y="1676520"/>
            <a:ext cx="144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Rectangle 15"/>
          <p:cNvSpPr/>
          <p:nvPr/>
        </p:nvSpPr>
        <p:spPr>
          <a:xfrm>
            <a:off x="2971800" y="1828800"/>
            <a:ext cx="586728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et global broker hand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nf::cci_originator observer_originator("observer")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ci_broker_handle(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ci_get_global_broker(observer_originator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Rectangle 15"/>
          <p:cNvSpPr/>
          <p:nvPr/>
        </p:nvSpPr>
        <p:spPr>
          <a:xfrm>
            <a:off x="2819520" y="3733920"/>
            <a:ext cx="6248160" cy="167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ister a callback to notify the creation of cci-parameters of the parameter_owner modules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m_broker.register_create_callback(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sc_bind(&amp;ex20_observer::config_new_param_callback,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this,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sc_unnamed::_1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Rectangle 33"/>
          <p:cNvSpPr/>
          <p:nvPr/>
        </p:nvSpPr>
        <p:spPr>
          <a:xfrm>
            <a:off x="152280" y="914400"/>
            <a:ext cx="28958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4800600" y="1600200"/>
            <a:ext cx="35812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Various other callbacks registration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Straight Connector 28"/>
          <p:cNvSpPr/>
          <p:nvPr/>
        </p:nvSpPr>
        <p:spPr>
          <a:xfrm flipH="1">
            <a:off x="1598760" y="1676520"/>
            <a:ext cx="144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Rectangle 1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Rectangle 33"/>
          <p:cNvSpPr/>
          <p:nvPr/>
        </p:nvSpPr>
        <p:spPr>
          <a:xfrm>
            <a:off x="304920" y="838080"/>
            <a:ext cx="2895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Rectangle 15"/>
          <p:cNvSpPr/>
          <p:nvPr/>
        </p:nvSpPr>
        <p:spPr>
          <a:xfrm>
            <a:off x="2057400" y="2057400"/>
            <a:ext cx="7010280" cy="373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Within the callback implementation of the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onfig_new_param_callback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function, register other callback functions for monitoring </a:t>
            </a:r>
            <a:r>
              <a:rPr b="0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ad, write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activities on to the cci-parameter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// Get reference of newly created cci-parameter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bserver_base_handle = m_broker.get_param_handle(param_handle.get_name(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// Register pre-read, pre/post-write callback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bserver_cb.push_back(observer_base_handle.register_pre_read_callback(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&amp;ex20_observer::pre_read_callback,this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bserver_cb.push_back(observer_base_handle.register_pre_write_callback(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&amp;ex20_observer::pre_write_callback,this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bserver_cb.push_back(observer_base_handle.register_post_write_callback(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&amp;ex20_observer::post_write_callback,this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Rectangle 13"/>
          <p:cNvSpPr/>
          <p:nvPr/>
        </p:nvSpPr>
        <p:spPr>
          <a:xfrm>
            <a:off x="2743200" y="106668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Within Constructor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Rectangle 13"/>
          <p:cNvSpPr/>
          <p:nvPr/>
        </p:nvSpPr>
        <p:spPr>
          <a:xfrm>
            <a:off x="2895480" y="114300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Within Constructor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Straight Connector 28"/>
          <p:cNvSpPr/>
          <p:nvPr/>
        </p:nvSpPr>
        <p:spPr>
          <a:xfrm flipH="1">
            <a:off x="1902960" y="1523880"/>
            <a:ext cx="180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Rectangle 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Rectangle 33"/>
          <p:cNvSpPr/>
          <p:nvPr/>
        </p:nvSpPr>
        <p:spPr>
          <a:xfrm>
            <a:off x="304920" y="838080"/>
            <a:ext cx="2895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Rectangle 15"/>
          <p:cNvSpPr/>
          <p:nvPr/>
        </p:nvSpPr>
        <p:spPr>
          <a:xfrm>
            <a:off x="380880" y="1676520"/>
            <a:ext cx="44960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t default value to the integer-type cci-parameter</a:t>
            </a:r>
            <a:br>
              <a:rPr sz="1400"/>
            </a:br>
            <a:br>
              <a:rPr sz="1400"/>
            </a:br>
            <a:r>
              <a:rPr b="1" i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t_param  =  new cci::cnf::cci_param&lt;int&gt;(“int_param”, 10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Rectangle 15"/>
          <p:cNvSpPr/>
          <p:nvPr/>
        </p:nvSpPr>
        <p:spPr>
          <a:xfrm>
            <a:off x="4724280" y="2514600"/>
            <a:ext cx="37339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port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t_param</a:t>
            </a: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-parameter has been created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4724280" y="3276720"/>
            <a:ext cx="373392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trieve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Handle for the ‘int_param’ cci-parameter </a:t>
            </a:r>
            <a:br>
              <a:rPr sz="1400"/>
            </a:b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nd stores it to new_param_hand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Rectangle 15"/>
          <p:cNvSpPr/>
          <p:nvPr/>
        </p:nvSpPr>
        <p:spPr>
          <a:xfrm>
            <a:off x="4724280" y="4114800"/>
            <a:ext cx="39625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ister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re_read callback using </a:t>
            </a:r>
            <a:r>
              <a:rPr b="1" i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new_param_handle</a:t>
            </a:r>
            <a:br>
              <a:rPr sz="1400"/>
            </a:br>
            <a:r>
              <a:rPr b="1" i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re_write callback using new_param_handle</a:t>
            </a:r>
            <a:br>
              <a:rPr sz="1400"/>
            </a:b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ost_write callback using new_param_hand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3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Rectangle 16"/>
          <p:cNvSpPr/>
          <p:nvPr/>
        </p:nvSpPr>
        <p:spPr>
          <a:xfrm>
            <a:off x="3505320" y="114300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@ 0 n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Straight Connector 28"/>
          <p:cNvSpPr/>
          <p:nvPr/>
        </p:nvSpPr>
        <p:spPr>
          <a:xfrm flipH="1">
            <a:off x="1902960" y="1523880"/>
            <a:ext cx="180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Rectangle 33"/>
          <p:cNvSpPr/>
          <p:nvPr/>
        </p:nvSpPr>
        <p:spPr>
          <a:xfrm>
            <a:off x="304920" y="838080"/>
            <a:ext cx="2895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Rectangle 15"/>
          <p:cNvSpPr/>
          <p:nvPr/>
        </p:nvSpPr>
        <p:spPr>
          <a:xfrm>
            <a:off x="380880" y="1752480"/>
            <a:ext cx="30481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t  (arbitrary) new value to the </a:t>
            </a:r>
            <a:r>
              <a:rPr b="0" i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t_param</a:t>
            </a:r>
            <a:br>
              <a:rPr sz="1400"/>
            </a:br>
            <a:br>
              <a:rPr sz="1400"/>
            </a:br>
            <a:r>
              <a:rPr b="1" i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*int_param = 15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Rectangle 15"/>
          <p:cNvSpPr/>
          <p:nvPr/>
        </p:nvSpPr>
        <p:spPr>
          <a:xfrm>
            <a:off x="4648320" y="2362320"/>
            <a:ext cx="4038480" cy="144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port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_read activity on the ‘int_param’</a:t>
            </a:r>
            <a:br>
              <a:rPr sz="1400"/>
            </a:b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_write activity on the ‘int_param’</a:t>
            </a:r>
            <a:br>
              <a:rPr sz="1400"/>
            </a:b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_read activity on the ‘int_param’</a:t>
            </a:r>
            <a:br>
              <a:rPr sz="1400"/>
            </a:b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ost_write activity on the ‘int_param’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AutoShape 15"/>
          <p:cNvSpPr/>
          <p:nvPr/>
        </p:nvSpPr>
        <p:spPr>
          <a:xfrm>
            <a:off x="4191120" y="4419720"/>
            <a:ext cx="2438280" cy="99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675" y="2492"/>
                </a:moveTo>
                <a:lnTo>
                  <a:pt x="-5330" y="2492"/>
                </a:lnTo>
                <a:lnTo>
                  <a:pt x="-5330" y="-8688"/>
                </a:lnTo>
                <a:lnTo>
                  <a:pt x="8466" y="-21392"/>
                </a:lnTo>
              </a:path>
              <a:path w="21600" h="21600">
                <a:moveTo>
                  <a:pt x="-675" y="0"/>
                </a:moveTo>
                <a:lnTo>
                  <a:pt x="-675" y="2160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pre_read”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callback is called because value of the parameter is read within the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“pre_write”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“post_write”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callback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4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Straight Connector 28"/>
          <p:cNvSpPr/>
          <p:nvPr/>
        </p:nvSpPr>
        <p:spPr>
          <a:xfrm flipH="1">
            <a:off x="1902960" y="1523880"/>
            <a:ext cx="180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Rectangle 33"/>
          <p:cNvSpPr/>
          <p:nvPr/>
        </p:nvSpPr>
        <p:spPr>
          <a:xfrm>
            <a:off x="304920" y="838080"/>
            <a:ext cx="2895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Rectangle 15"/>
          <p:cNvSpPr/>
          <p:nvPr/>
        </p:nvSpPr>
        <p:spPr>
          <a:xfrm>
            <a:off x="380880" y="1676520"/>
            <a:ext cx="50292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reate and set default value to the float-type cci-parameter</a:t>
            </a:r>
            <a:br>
              <a:rPr sz="1400"/>
            </a:br>
            <a:br>
              <a:rPr sz="1400"/>
            </a:br>
            <a:r>
              <a:rPr b="1" i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loat_param  =  new cci::cnf::cci_param&lt;int&gt;(“float_param”, 12.345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Rectangle 15"/>
          <p:cNvSpPr/>
          <p:nvPr/>
        </p:nvSpPr>
        <p:spPr>
          <a:xfrm>
            <a:off x="4724280" y="2514600"/>
            <a:ext cx="37339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port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loat_param</a:t>
            </a: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-parameter has been created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Rectangle 15"/>
          <p:cNvSpPr/>
          <p:nvPr/>
        </p:nvSpPr>
        <p:spPr>
          <a:xfrm>
            <a:off x="4724280" y="3276720"/>
            <a:ext cx="388620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trieve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Handle for the ‘float_param’ cci-parameter </a:t>
            </a:r>
            <a:br>
              <a:rPr sz="1400"/>
            </a:b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nd stores it to new_param_hand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Rectangle 15"/>
          <p:cNvSpPr/>
          <p:nvPr/>
        </p:nvSpPr>
        <p:spPr>
          <a:xfrm>
            <a:off x="4724280" y="4114800"/>
            <a:ext cx="39625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ister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re_read callback using </a:t>
            </a:r>
            <a:r>
              <a:rPr b="1" i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new_param_handle</a:t>
            </a:r>
            <a:br>
              <a:rPr sz="1400"/>
            </a:br>
            <a:r>
              <a:rPr b="1" i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re_write callback using new_param_handle</a:t>
            </a:r>
            <a:br>
              <a:rPr sz="1400"/>
            </a:b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ost_write callback using new_param_hand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Rectangle 16"/>
          <p:cNvSpPr/>
          <p:nvPr/>
        </p:nvSpPr>
        <p:spPr>
          <a:xfrm>
            <a:off x="3657600" y="114300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@ 5 n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5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(ex20_Tracing_Parameter_Activity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Prior to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C_TOR] : Creating new integer type cci-parameter with default value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Retrieving handle for newly created cci_parame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Parameter Name : param_owner.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has been creat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Parameter Value :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Registering other callbacks on the newly created cci-paramete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Setting new value to the 'int' type param to '15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pre_write_cb] : Retrieving details of new cci-parame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pre_write_cb] : Parameter Name : param_owner.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post_write_cb] : Retrieving details of new cci-parame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post_write_cb] : Parameter Name : param_owner.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@ 5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Creating new 'double' type cci-parameter with default value : 12.34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7T01:25:28Z</dcterms:modified>
  <cp:revision>82</cp:revision>
  <dc:subject/>
  <dc:title>ex20_Tracing_Parameter_Activi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01:25:27Z</vt:lpwstr>
  </property>
  <property fmtid="{D5CDD505-2E9C-101B-9397-08002B2CF9AE}" pid="5" name="TitusGUID">
    <vt:lpwstr>c510a3f5-05aa-41bf-bec3-42483cac079d</vt:lpwstr>
  </property>
</Properties>
</file>