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82764-AABC-466D-96B1-83E624DE7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F4D89-03F7-4D84-B35A-C7A91F6912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31909-5F47-47DB-AC05-BE4CBA87B0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1B09D-E1F9-4072-9EDD-0B5B0DE979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901EE-E6DF-4F66-8D75-BABB014E2E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4EE92-2E91-4E36-922E-DA023684E9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C308F-BE46-4227-9618-331FFBA410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72BEA-FA3B-40AC-B977-D36F7EB604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91F2B-BA76-418C-BBEC-921EA143D6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BBAD1-7071-4662-893F-518A8A63AB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437B7-3A92-477C-8C48-33220130FD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F0CD9-BAF0-4061-A994-DEFC43E280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D9173-ADC8-493C-80CF-7ECA532213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0DB88-BE2F-42A4-B649-835AF33751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32BEB-0E78-4D51-9E73-91EE3D8741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D6D3B-F586-4C0A-8066-5F2C1886AC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D5B2E-0DCD-4396-AA2C-7EFE56304A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5BFDA-3B03-4B27-906E-4864C1AF39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6FD61-2065-434B-9C5C-F0AFAECC8F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8E427-4200-4B93-85A4-5B3CA88C81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8D80F-96F1-42F7-81C3-A3E76F5D2C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ED447-19FF-402D-97A7-A7BF55E460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57C37-6E79-4550-85B7-D7A12B5FF8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A1565-ED7B-40DD-BEAE-691CF410E2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7913B-D9C7-4D38-9295-5A70AD7880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AD0F-56E4-4119-A6A5-E9DA88B3E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DDFF1-2979-4140-AEBE-CF555E157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A1F0-229B-46D6-B7D8-490A7BAB2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3EE2-8C2C-4B8D-8989-D52CE46F9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5BBF-2DC3-4478-AC10-389F59A99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C63E-658E-4B73-87BE-9FAF29460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9BBC-23D3-4870-BDEF-94735147F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B6A6-1169-4ECA-86EE-B63212155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FB05-D388-4D3E-910C-BF65CFEA5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D69F7-B558-4D47-AB08-4FC11B8A0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F25C-A551-4551-8E8E-C4B134FB0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8827-EE7E-44E8-A311-F05E9D74E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73A23-21A7-46F2-B794-B39C82C7B214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3809880" y="1425600"/>
            <a:ext cx="518184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latest write originator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latest_write_originator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latest write originator 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get_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latest_write_originator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get_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40798-EFEA-418C-972A-73A1837AA2C9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:VisualMarkings=</cp:keywords>
  <dc:language>en-US</dc:language>
  <cp:lastModifiedBy>Wieman, Trevor</cp:lastModifiedBy>
  <cp:lastPrinted>2017-01-29T19:35:36Z</cp:lastPrinted>
  <dcterms:modified xsi:type="dcterms:W3CDTF">2017-12-15T20:28:53Z</dcterms:modified>
  <cp:revision>126</cp:revision>
  <dc:subject/>
  <dc:title>ex7_Parameter_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28:52Z</vt:lpwstr>
  </property>
  <property fmtid="{D5CDD505-2E9C-101B-9397-08002B2CF9AE}" pid="5" name="TitusGUID">
    <vt:lpwstr>9c3cd9ca-52ed-4274-8e98-0bc921084663</vt:lpwstr>
  </property>
</Properties>
</file>