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D3CF-4C23-4B91-B3F7-EB6017AD5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F73C-30F9-4AD9-B37F-3CD9B7955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9829-A161-48F2-B80A-CB02864F5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F710-1182-46EE-9E7E-C2548C328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3DB9-6179-4D30-A6D5-A0E6EA769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EFB2-D580-4305-9074-0DE62D7C9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68F34-1F3A-414B-A46F-EBCC577C9E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AE4BE-E238-46A5-B91F-2E3BE70225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1E50F-764C-453E-B115-800D6AA298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053C7-1447-4364-A17C-FC8C26DF43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34612-0441-45D2-AD03-C6A12506F9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86DBC-6C5E-48FE-AB39-768D2E2012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C1466-90B7-44CF-8D3A-D3C0D7BB28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8AD27-13EA-44E7-A66D-79C3A1EF94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1A3AB-9154-4E87-847B-B38281D40E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6DC12-F4F8-4FF0-BEF0-6311B20577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0A283-FD17-434B-9ED7-E8BC659446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3DF48-9683-4552-A8A7-D10B73C665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5FF2-A5C5-4D57-851B-710EC2D3A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Immutable Parameters</a:t>
            </a:r>
            <a:br>
              <a:rPr sz="2600"/>
            </a:br>
            <a:br>
              <a:rPr sz="2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hal Go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mple Immutable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 use of simple immutabl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 module specifies variables as immu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 1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 parameter with default va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 this value is set, any attempt to change the parameter at run time will fai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 initial value for a parameter; before parameter construc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value will take precedence over default (constructor) value of the parameter; as well as; any attempt to change the parameter at run time will fa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UC-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5068800" y="1009800"/>
            <a:ext cx="198936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2143080" y="100188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6058800" y="14299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3118680" y="1430280"/>
            <a:ext cx="1836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TextBox 27"/>
          <p:cNvSpPr/>
          <p:nvPr/>
        </p:nvSpPr>
        <p:spPr>
          <a:xfrm>
            <a:off x="657360" y="146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Folded Corner 41"/>
          <p:cNvSpPr/>
          <p:nvPr/>
        </p:nvSpPr>
        <p:spPr>
          <a:xfrm>
            <a:off x="6129360" y="2019240"/>
            <a:ext cx="2773440" cy="3999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,immutable_parameter&gt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1(“param_1”, 1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Folded Corner 42"/>
          <p:cNvSpPr/>
          <p:nvPr/>
        </p:nvSpPr>
        <p:spPr>
          <a:xfrm>
            <a:off x="6129360" y="3570120"/>
            <a:ext cx="1214280" cy="4413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1 = 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Rounded Rectangular Callout 44"/>
          <p:cNvSpPr/>
          <p:nvPr/>
        </p:nvSpPr>
        <p:spPr>
          <a:xfrm>
            <a:off x="3746520" y="549756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ram_1 ‘Owner’ modu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ounded Rectangular Callout 45"/>
          <p:cNvSpPr/>
          <p:nvPr/>
        </p:nvSpPr>
        <p:spPr>
          <a:xfrm>
            <a:off x="814320" y="5502240"/>
            <a:ext cx="2216160" cy="531720"/>
          </a:xfrm>
          <a:prstGeom prst="wedgeRoundRectCallout">
            <a:avLst>
              <a:gd name="adj1" fmla="val 53509"/>
              <a:gd name="adj2" fmla="val -13576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Rounded Rectangular Callout 44"/>
          <p:cNvSpPr/>
          <p:nvPr/>
        </p:nvSpPr>
        <p:spPr>
          <a:xfrm>
            <a:off x="7054920" y="2579760"/>
            <a:ext cx="1904760" cy="579240"/>
          </a:xfrm>
          <a:prstGeom prst="wedgeRoundRectCallout">
            <a:avLst>
              <a:gd name="adj1" fmla="val -47550"/>
              <a:gd name="adj2" fmla="val -75976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Default value is ignored. param_1 remains “100” (Ref: example5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ounded Rectangular Callout 44"/>
          <p:cNvSpPr/>
          <p:nvPr/>
        </p:nvSpPr>
        <p:spPr>
          <a:xfrm>
            <a:off x="3225960" y="2378160"/>
            <a:ext cx="1519200" cy="304560"/>
          </a:xfrm>
          <a:prstGeom prst="wedgeRoundRectCallout">
            <a:avLst>
              <a:gd name="adj1" fmla="val -47037"/>
              <a:gd name="adj2" fmla="val -127875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Set up init value to 100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Rounded Rectangular Callout 44"/>
          <p:cNvSpPr/>
          <p:nvPr/>
        </p:nvSpPr>
        <p:spPr>
          <a:xfrm>
            <a:off x="7035840" y="4240080"/>
            <a:ext cx="1923840" cy="534960"/>
          </a:xfrm>
          <a:prstGeom prst="wedgeRoundRectCallout">
            <a:avLst>
              <a:gd name="adj1" fmla="val -56300"/>
              <a:gd name="adj2" fmla="val -89625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Attempt to update param_1 value fails. param_1 remains “100”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TextBox 28"/>
          <p:cNvSpPr/>
          <p:nvPr/>
        </p:nvSpPr>
        <p:spPr>
          <a:xfrm>
            <a:off x="662760" y="356220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Folded Corner 41"/>
          <p:cNvSpPr/>
          <p:nvPr/>
        </p:nvSpPr>
        <p:spPr>
          <a:xfrm>
            <a:off x="3225960" y="1517760"/>
            <a:ext cx="2398680" cy="6350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sim_ip.param_1"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::cci_value::from_json("1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UC-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5068800" y="1009800"/>
            <a:ext cx="198936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2149560" y="984240"/>
            <a:ext cx="19890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9" name="Straight Arrow Connector 16"/>
          <p:cNvCxnSpPr>
            <a:stCxn id="107" idx="2"/>
          </p:cNvCxnSpPr>
          <p:nvPr/>
        </p:nvCxnSpPr>
        <p:spPr>
          <a:xfrm flipH="1">
            <a:off x="6058800" y="14299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Straight Arrow Connector 17"/>
          <p:cNvCxnSpPr>
            <a:stCxn id="108" idx="2"/>
          </p:cNvCxnSpPr>
          <p:nvPr/>
        </p:nvCxnSpPr>
        <p:spPr>
          <a:xfrm flipH="1">
            <a:off x="3125160" y="1412640"/>
            <a:ext cx="19800" cy="426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1" name="TextBox 27"/>
          <p:cNvSpPr/>
          <p:nvPr/>
        </p:nvSpPr>
        <p:spPr>
          <a:xfrm>
            <a:off x="657360" y="146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28"/>
          <p:cNvSpPr/>
          <p:nvPr/>
        </p:nvSpPr>
        <p:spPr>
          <a:xfrm>
            <a:off x="608760" y="28843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Folded Corner 42"/>
          <p:cNvSpPr/>
          <p:nvPr/>
        </p:nvSpPr>
        <p:spPr>
          <a:xfrm>
            <a:off x="6102360" y="4059360"/>
            <a:ext cx="1258920" cy="2746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44"/>
          <p:cNvSpPr/>
          <p:nvPr/>
        </p:nvSpPr>
        <p:spPr>
          <a:xfrm>
            <a:off x="3720960" y="547056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ram_2 ‘Owner’ modu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Rounded Rectangular Callout 45"/>
          <p:cNvSpPr/>
          <p:nvPr/>
        </p:nvSpPr>
        <p:spPr>
          <a:xfrm>
            <a:off x="789120" y="5432400"/>
            <a:ext cx="2276280" cy="541440"/>
          </a:xfrm>
          <a:prstGeom prst="wedgeRoundRectCallout">
            <a:avLst>
              <a:gd name="adj1" fmla="val 51254"/>
              <a:gd name="adj2" fmla="val -119689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XTERNAL module updating sim_ip.param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44"/>
          <p:cNvSpPr/>
          <p:nvPr/>
        </p:nvSpPr>
        <p:spPr>
          <a:xfrm>
            <a:off x="6494400" y="2365200"/>
            <a:ext cx="1962360" cy="385920"/>
          </a:xfrm>
          <a:prstGeom prst="wedgeRoundRectCallout">
            <a:avLst>
              <a:gd name="adj1" fmla="val -46513"/>
              <a:gd name="adj2" fmla="val -88023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Default value will be used. param_2 = 2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Rounded Rectangular Callout 44"/>
          <p:cNvSpPr/>
          <p:nvPr/>
        </p:nvSpPr>
        <p:spPr>
          <a:xfrm>
            <a:off x="6800760" y="4570560"/>
            <a:ext cx="1390680" cy="441000"/>
          </a:xfrm>
          <a:prstGeom prst="wedgeRoundRectCallout">
            <a:avLst>
              <a:gd name="adj1" fmla="val -56611"/>
              <a:gd name="adj2" fmla="val -98666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Internal updates are also reject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Folded Corner 42"/>
          <p:cNvSpPr/>
          <p:nvPr/>
        </p:nvSpPr>
        <p:spPr>
          <a:xfrm>
            <a:off x="3201840" y="2889360"/>
            <a:ext cx="2819520" cy="3952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_handle.set_cci_value(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value("2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TextBox 28"/>
          <p:cNvSpPr/>
          <p:nvPr/>
        </p:nvSpPr>
        <p:spPr>
          <a:xfrm>
            <a:off x="648360" y="39337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3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Folded Corner 41"/>
          <p:cNvSpPr/>
          <p:nvPr/>
        </p:nvSpPr>
        <p:spPr>
          <a:xfrm>
            <a:off x="6087960" y="1776240"/>
            <a:ext cx="2800440" cy="4003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,immutable_parameter&gt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(“param_2”, 2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Rounded Rectangular Callout 44"/>
          <p:cNvSpPr/>
          <p:nvPr/>
        </p:nvSpPr>
        <p:spPr>
          <a:xfrm>
            <a:off x="3691080" y="3505320"/>
            <a:ext cx="1517400" cy="428400"/>
          </a:xfrm>
          <a:prstGeom prst="wedgeRoundRectCallout">
            <a:avLst>
              <a:gd name="adj1" fmla="val -40527"/>
              <a:gd name="adj2" fmla="val -86462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External updates are reject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ex04_Simple_Immutable_param.log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0880" y="1133640"/>
            <a:ext cx="8686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0 s, Attempting to setup config_ip to 100 before IP constru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0 s, Set init-value of sim_ip.param_1 to 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specified for sim_ip.param_1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specified for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param_1 mutable type is immu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param_2 mutable type is immu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Ctor: immutable param: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Ctor: immutable param: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nsolas"/>
              </a:rPr>
              <a:t>Info: sim_ip: @0 s, execute method is testing Use Case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@Run: Assign new value (10) to sim_ip.param_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1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37880"/>
            <a:ext cx="86868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0880" y="1244520"/>
            <a:ext cx="86868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nsolas"/>
              </a:rPr>
              <a:t>Info: sim_ip: @10 ns, execute method is testing Use Case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Attempting to set value of 'sim_ip.param_2' to 2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2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cfg_ip.execute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30 ns, @Run: Assign new value (20) to sim_ip.param_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2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3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Vishal Goel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0-06T16:22:58Z</dcterms:modified>
  <cp:revision>212</cp:revision>
  <dc:subject/>
  <dc:title>Simple Immutable Parameters Examp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6-12-20 21:49:18Z</vt:lpwstr>
  </property>
  <property fmtid="{D5CDD505-2E9C-101B-9397-08002B2CF9AE}" pid="5" name="TitusGUID">
    <vt:lpwstr>f1c79e0e-b5e2-49e9-9085-1b84db7193b4</vt:lpwstr>
  </property>
</Properties>
</file>